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037-1527-4F95-BDCA-8C386CF0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DA1-57B6-4637-9F4B-9334BBC1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281-301D-4588-A5E7-DFBE30DA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229-D1BB-4145-828D-DACC9D41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5BB-7033-4143-A0C7-94AA1B8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27F-5DDF-4E13-BE09-7CA08623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268-8209-4C75-AFE3-BC2CE32D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843-ED4B-4703-9759-82C91CCD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057-47DA-4317-A80D-84152AC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709-FAC8-4E9A-AF1C-AEFF8E8B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BB6-28E6-4907-BFD6-B452A642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EF8-A9B1-4B55-8678-5E53A8C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2445-E180-4FB3-9A73-E25E7D2DB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OG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 your bellringer folder and do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parallelogram, then its diagonals bisect each 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030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parallelogr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parallelogr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n its diagonals bisect each 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027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</a:rPr>
              <a:t>If a figure is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parallelogram,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</a:rPr>
              <a:t>then its diagonals bisect each 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f a figure is a rectangle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parallelogram,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ts diagonals bis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1024"/>
          <p:cNvGraphicFramePr/>
          <p:nvPr/>
        </p:nvGraphicFramePr>
        <p:xfrm>
          <a:off x="304920" y="4648320"/>
          <a:ext cx="10666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0666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1219320" y="43434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s diagonals bise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Detach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0"/>
          <p:cNvGraphicFramePr/>
          <p:nvPr/>
        </p:nvGraphicFramePr>
        <p:xfrm>
          <a:off x="2511360" y="1981080"/>
          <a:ext cx="3206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1360" y="1981080"/>
                    <a:ext cx="3206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a rect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a figure is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ABCD is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304920" y="3581280"/>
          <a:ext cx="1295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81280"/>
                    <a:ext cx="1295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a rect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024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1447920" y="46483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a parallelogr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Contraposi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0"/>
          <p:cNvGraphicFramePr/>
          <p:nvPr/>
        </p:nvGraphicFramePr>
        <p:xfrm>
          <a:off x="2989440" y="2133720"/>
          <a:ext cx="308736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30873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024"/>
          <p:cNvGraphicFramePr/>
          <p:nvPr/>
        </p:nvGraphicFramePr>
        <p:xfrm>
          <a:off x="304920" y="3657600"/>
          <a:ext cx="129528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12952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 having an if and a t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 drove to school today, then I can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t is 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a parallelogra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BCD is </a:t>
            </a: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not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 a parallelogr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1024"/>
          <p:cNvGraphicFramePr/>
          <p:nvPr/>
        </p:nvGraphicFramePr>
        <p:xfrm>
          <a:off x="304920" y="3657600"/>
          <a:ext cx="129528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12952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f a figure is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024"/>
          <p:cNvGraphicFramePr/>
          <p:nvPr/>
        </p:nvGraphicFramePr>
        <p:xfrm>
          <a:off x="304920" y="3657600"/>
          <a:ext cx="129528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12952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4"/>
          <p:cNvSpPr/>
          <p:nvPr/>
        </p:nvSpPr>
        <p:spPr>
          <a:xfrm>
            <a:off x="1371600" y="3809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</a:t>
            </a:r>
            <a:r>
              <a:rPr b="0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85800" y="11430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ime to Practic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LOCK"/>
          <p:cNvPicPr/>
          <p:nvPr/>
        </p:nvPicPr>
        <p:blipFill>
          <a:blip r:embed="rId1"/>
          <a:stretch/>
        </p:blipFill>
        <p:spPr>
          <a:xfrm>
            <a:off x="3048120" y="2666880"/>
            <a:ext cx="3063600" cy="3148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3520" y="45720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the following examples, use the given law of syllogism to draw the correct conclusion from the set of premis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533520" y="380880"/>
            <a:ext cx="82296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 If frogs fly then   toads t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gs f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762120" y="5486400"/>
          <a:ext cx="76176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86400"/>
                    <a:ext cx="7617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Detach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1447920" y="1981080"/>
          <a:ext cx="5333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533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3520" y="380880"/>
            <a:ext cx="82296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 If frogs fly then   toads t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gs f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762120" y="5486400"/>
          <a:ext cx="76176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86400"/>
                    <a:ext cx="7617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380880"/>
            <a:ext cx="82296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 If frogs fly then   toads t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gs f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ads t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762120" y="5486400"/>
          <a:ext cx="76176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86400"/>
                    <a:ext cx="7617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3520" y="457200"/>
            <a:ext cx="76960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.  If hens heckle then crows don’t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ows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Contraposi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2286000" y="2133720"/>
          <a:ext cx="4495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33720"/>
                    <a:ext cx="4495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se- switch the hypothesis and the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Statement:  If I drove to school today, then I can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e:  If I can give you a ride home, then I drove to school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necessarily true. It might be, but doesn’t have to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3520" y="457200"/>
            <a:ext cx="76960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.  If hens heckle then crows don’t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ows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33520" y="457200"/>
            <a:ext cx="76960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.  If hens heckle then crows don’t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ows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ns don’t heck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5800" y="685800"/>
            <a:ext cx="74674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  If ants don’t ask then flies don’t fr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ts don’t as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Detach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1447920" y="1981080"/>
          <a:ext cx="5333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533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85800" y="685800"/>
            <a:ext cx="74674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  If ants don’t ask then flies don’t fr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ts don’t as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85800" y="685800"/>
            <a:ext cx="74674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  If ants don’t ask then flies don’t fr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ts don’t as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ies don’t fr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457200"/>
            <a:ext cx="88390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 If Dave dives then Cal ca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Cal caves then Hank hi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----------------------------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of Syllogis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828800" y="1981080"/>
          <a:ext cx="5791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791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457200"/>
            <a:ext cx="88390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 If Dave dives then Cal ca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Cal caves then Hank hi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----------------------------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457200"/>
            <a:ext cx="88390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 If Dave dives then Cal ca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Cal caves then Hank hi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----------------------------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Dave dives then Hank hi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dict the hypothesis and 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Statement:  If I drove to school today, then I can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:  If I didn’t drive to school today, then I can’t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verse is not necessarily true. Might be, but doesn’t have to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533520"/>
            <a:ext cx="77724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 If dogs duel then rats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ts don’t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Contraposi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2286000" y="2133720"/>
          <a:ext cx="4495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33720"/>
                    <a:ext cx="4495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85800" y="533520"/>
            <a:ext cx="77724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 If dogs duel then rats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ts don’t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85800" y="533520"/>
            <a:ext cx="77724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 If dogs duel then rats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ts don’t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gs don’t due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133720" y="205740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oes this one work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ere are the premise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3078000" y="2133720"/>
          <a:ext cx="2909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0" y="2133720"/>
                    <a:ext cx="2909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place with contrapositiv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3078000" y="2133720"/>
          <a:ext cx="2909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0" y="2133720"/>
                    <a:ext cx="2909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4"/>
          <p:cNvGraphicFramePr/>
          <p:nvPr/>
        </p:nvGraphicFramePr>
        <p:xfrm>
          <a:off x="5791320" y="2209680"/>
          <a:ext cx="28954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209680"/>
                    <a:ext cx="2895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5"/>
          <p:cNvSpPr/>
          <p:nvPr/>
        </p:nvSpPr>
        <p:spPr>
          <a:xfrm>
            <a:off x="5715000" y="2209680"/>
            <a:ext cx="3048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place with contrapositiv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64040" y="2133720"/>
          <a:ext cx="273816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4040" y="2133720"/>
                    <a:ext cx="27381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4"/>
          <p:cNvGraphicFramePr/>
          <p:nvPr/>
        </p:nvGraphicFramePr>
        <p:xfrm>
          <a:off x="2819520" y="2209680"/>
          <a:ext cx="304776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209680"/>
                    <a:ext cx="30477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2743200" y="2209680"/>
            <a:ext cx="3429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se Law of Detatchment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3201840" y="2133720"/>
          <a:ext cx="266076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1840" y="2133720"/>
                    <a:ext cx="26607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4"/>
          <p:cNvGraphicFramePr/>
          <p:nvPr/>
        </p:nvGraphicFramePr>
        <p:xfrm>
          <a:off x="2819520" y="2209680"/>
          <a:ext cx="304776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209680"/>
                    <a:ext cx="30477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Contraposi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2286000" y="2133720"/>
          <a:ext cx="4495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33720"/>
                    <a:ext cx="4495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pos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the hypothesis and conclusion and negate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Statement:  If I drove to school today, then I can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positive:  If I can’t give you a ride home, then I didn’t drive to school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rapositive of a true conditional statement is ALWAY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2120" y="914400"/>
            <a:ext cx="7696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yllogism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A set of statements called 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premises,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ich lead to one logical conclus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66680" y="838080"/>
            <a:ext cx="6629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f the premises are true, (and we assume they are), then the conclusion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be tru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83808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Note:  This symbol means “Therefore”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5715000" y="3200400"/>
          <a:ext cx="213372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00400"/>
                    <a:ext cx="213372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380880" y="2666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t signals the conclusion.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of Syllogis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2938320" y="1981080"/>
          <a:ext cx="357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8320" y="1981080"/>
                    <a:ext cx="357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1:29:59Z</dcterms:created>
  <dc:creator>Salem Teacher</dc:creator>
  <dc:description/>
  <dc:language>en-US</dc:language>
  <cp:lastModifiedBy>BeasoA</cp:lastModifiedBy>
  <dcterms:modified xsi:type="dcterms:W3CDTF">2010-09-28T13:29:58Z</dcterms:modified>
  <cp:revision>19</cp:revision>
  <dc:subject/>
  <dc:title>LOGIC:</dc:title>
</cp:coreProperties>
</file>